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B84-65CF-4106-9289-361015F7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52E-0963-42C0-A725-A2D059C2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501-85C6-418B-BA7C-A1F28DD0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FDD-EAD4-46EC-BDD5-A57F7E12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6E5-E838-4912-9405-A03E521E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72D-32A0-4204-B216-6D65D354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13B-A75B-40D5-A7D7-F8FCF4B9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E6E-C93A-4BDB-9F79-1DE9DCDD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E89-E7F5-430C-89CB-0A327988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B1E-698E-49E0-837D-B9170928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AD7-CB2F-4F5E-85C8-5975A9F0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A09-1F9E-48C6-9CAA-A31C767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7DF3-A63E-447C-AA92-DA96886D6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n argument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roduce the text, the author, and provide comments about the author or text (Kayla Castillo is a Senior at El Cajon Valley High and a writer for Smoke Sig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phrase or directly quote the author’s main claim (use a ver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her expository article “The Drug that Pretends it Isn’t,” Anna Quindlen-a Pulitzer Prize-winning journalist and novelist argues that “booze and beer are not the same as illegal drugs.  They’re worse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r.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hool PD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oup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 groups (max of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grade sheet/card for stickers (write na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rticle “School PDA” page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all of the Prereading steps your group does (each person needs their own sheet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/staple scratch paper to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all of the text marking steps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 argument statement (same sheet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3:52Z</dcterms:created>
  <dc:creator>Teacher</dc:creator>
  <dc:description/>
  <dc:language>en-US</dc:language>
  <cp:lastModifiedBy>Teacher</cp:lastModifiedBy>
  <dcterms:modified xsi:type="dcterms:W3CDTF">2009-12-07T19:43:57Z</dcterms:modified>
  <cp:revision>1</cp:revision>
  <dc:subject/>
  <dc:title>What is an argument statement?</dc:title>
</cp:coreProperties>
</file>